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F189-D1F4-4C84-8C31-8570F5A30CA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B1E-C883-4763-BEAB-5E4BE3A7506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B7D-E7B2-4F97-B504-607D1A53844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ADE-810F-475B-9DC6-8E35007C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F9E-FFB8-48AC-B25A-FA4EBBB6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B8F-0903-450B-A542-5971306A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AE2-B863-4D1F-9341-80F6F5E5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589-85AF-45E4-A20C-B3DBE76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82FC-CFA0-44A0-A05F-8F63BD3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2F3B-FA93-41EB-9DB7-14F503BB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569-50A7-4B21-B623-1EC8A47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FFA9-1EBF-4E6D-8EFF-41BE09F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3F3A-4CD8-4F30-855D-2287F72F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70F1-DE6F-4127-A596-9B301CE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2BB-EB90-41BC-B69D-2A406D07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5F0-6844-4120-A72F-384D342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233B-5717-4DEC-B797-BBE9777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83D3-5E87-4657-A1A2-08508D6C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3D65-F05C-4D0F-B7D2-C11906CC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FF7-61F8-4DF1-BB07-46F66868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0F2F-2AB5-4409-B4A9-5EF99E7A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4B46-1D88-4768-895C-E2749093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B357-7BBF-4217-A769-CACC6A4C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A880-C4CC-4416-BF79-13645BB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B322-BA41-4477-B941-1AB639A9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61E-A132-4AD8-A244-5A37DDE2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FD4F-98BE-4015-BCE5-08BC4D4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7F82-2FAE-44A4-9FC2-89B7ACF6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5259-FA14-44F9-98BC-A7CF682E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2F79-95BB-4828-8BCF-13ADD90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A895-C20D-4172-A74C-EBF558EA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8962-8E20-48B2-B168-81C49A48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081E-BEFE-44B3-B7AD-0A8C8102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DCB-280D-4F86-80AA-A170CB13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88E-DF89-47B7-86AB-AAFEE062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403-F7BE-49C7-859C-75EFA9DC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2E8-E7EB-4458-8DE8-55C45680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2D1-3A89-4CA9-BD87-38EA33F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5F0-DB56-44F6-A3C5-9CFFC91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圖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0" y="0"/>
            <a:ext cx="9144000" cy="73080"/>
            <a:chOff x="0" y="0"/>
            <a:chExt cx="9144000" cy="730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0" y="42840"/>
            <a:ext cx="4572000" cy="66600"/>
            <a:chOff x="0" y="42840"/>
            <a:chExt cx="4572000" cy="666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43920"/>
              <a:ext cx="4572000" cy="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2840"/>
              <a:ext cx="457200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圖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888-14C4-4B88-A635-7EB784DF068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AB96-6758-4CCA-B500-F38B3F1279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D4E7-CB19-4584-9C8D-55C97916E0DE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72880"/>
            <a:ext cx="84960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001b36"/>
                </a:solidFill>
                <a:latin typeface="Maiandra GD"/>
              </a:rPr>
              <a:t>金山高中</a:t>
            </a: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103</a:t>
            </a:r>
            <a:r>
              <a:rPr b="0" lang="zh-TW" sz="4400" spc="-1" strike="noStrike">
                <a:solidFill>
                  <a:srgbClr val="001b36"/>
                </a:solidFill>
                <a:latin typeface="Maiandra GD"/>
              </a:rPr>
              <a:t>學年度期初校務會議</a:t>
            </a:r>
            <a:br>
              <a:rPr sz="4400"/>
            </a:br>
            <a:r>
              <a:rPr b="0" lang="zh-TW" sz="4400" spc="-1" strike="noStrike">
                <a:solidFill>
                  <a:srgbClr val="001b36"/>
                </a:solidFill>
                <a:latin typeface="Maiandra GD"/>
              </a:rPr>
              <a:t>輔導處報告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550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mbria"/>
              </a:rPr>
              <a:t>報告人：李金龍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mbria"/>
              </a:rPr>
              <a:t>日期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103</a:t>
            </a:r>
            <a:r>
              <a:rPr b="0" lang="zh-TW" sz="2400" spc="-1" strike="noStrike">
                <a:solidFill>
                  <a:srgbClr val="000000"/>
                </a:solidFill>
                <a:latin typeface="Cambria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Cambria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9</a:t>
            </a:r>
            <a:r>
              <a:rPr b="0" lang="zh-TW" sz="2400" spc="-1" strike="noStrike">
                <a:solidFill>
                  <a:srgbClr val="000000"/>
                </a:solidFill>
                <a:latin typeface="Cambria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0" name="Picture 3" descr="C:\Documents and Settings\Administrator\Local Settings\Temporary Internet Files\Content.IE5\Y0XHI7IS\MP900439274[1].jpg"/>
          <p:cNvPicPr/>
          <p:nvPr/>
        </p:nvPicPr>
        <p:blipFill>
          <a:blip r:embed="rId1"/>
          <a:stretch/>
        </p:blipFill>
        <p:spPr>
          <a:xfrm>
            <a:off x="-357120" y="4286160"/>
            <a:ext cx="3771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文鼎火柴體"/>
                <a:ea typeface="文鼎火柴體"/>
              </a:rPr>
              <a:t>成員介紹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55640" y="1844640"/>
          <a:ext cx="7777080" cy="4105440"/>
        </p:xfrm>
        <a:graphic>
          <a:graphicData uri="http://schemas.openxmlformats.org/drawingml/2006/table">
            <a:tbl>
              <a:tblPr/>
              <a:tblGrid>
                <a:gridCol w="1530360"/>
                <a:gridCol w="2357280"/>
                <a:gridCol w="2089440"/>
                <a:gridCol w="180000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職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職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任輔導教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金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高中專任輔導教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賴雅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發展組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李清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高輔中心協助行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嘉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輔導組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游靜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兼任輔導教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洪秉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特教組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張嘉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兼任輔導教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劉怡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特教助理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何奇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專任輔導教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俐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高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林佳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陳婉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高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劉旭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借調教育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吳芳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高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柳超莊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支援秀峰高中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翁筱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謝書沛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小巡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中特教老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eb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王鈺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4" descr="C:\Users\AA8255\AppData\Local\Microsoft\Windows\Temporary Internet Files\Content.IE5\DKRZN233\MC900078708[1].wmf"/>
          <p:cNvPicPr/>
          <p:nvPr/>
        </p:nvPicPr>
        <p:blipFill>
          <a:blip r:embed="rId1"/>
          <a:stretch/>
        </p:blipFill>
        <p:spPr>
          <a:xfrm>
            <a:off x="6156360" y="260280"/>
            <a:ext cx="1295280" cy="121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AA8255\AppData\Local\Microsoft\Windows\Temporary Internet Files\Content.IE5\DKRZN233\MC900078708[1].wmf"/>
          <p:cNvPicPr/>
          <p:nvPr/>
        </p:nvPicPr>
        <p:blipFill>
          <a:blip r:embed="rId2"/>
          <a:stretch/>
        </p:blipFill>
        <p:spPr>
          <a:xfrm flipH="1">
            <a:off x="1618920" y="291960"/>
            <a:ext cx="129708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1b36"/>
                </a:solidFill>
                <a:latin typeface="Maiandra GD"/>
              </a:rPr>
              <a:t>輔導組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請導師在輔導學生之後，務必要記錄學生輔導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持續推動學生輔導三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生命教育、兩性教育、家庭教育議題請持續融入課程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國中高關班於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9/15</a:t>
            </a: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開始上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家長日實施計畫討論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BFD1-DA40-4B52-84B2-C739FA86949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1b36"/>
                </a:solidFill>
                <a:latin typeface="Maiandra GD"/>
              </a:rPr>
              <a:t>生涯發展組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生涯發展教育請持續融入課程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生涯發展教育推動小組於校務會議後開會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國三技藝教育學程於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9/4</a:t>
            </a: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開始上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1b36"/>
                </a:solidFill>
                <a:latin typeface="Maiandra GD"/>
              </a:rPr>
              <a:t>特教組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9/9</a:t>
            </a:r>
            <a:r>
              <a:rPr b="0" lang="zh-TW" sz="3200" spc="-1" strike="noStrike">
                <a:solidFill>
                  <a:srgbClr val="000000"/>
                </a:solidFill>
                <a:latin typeface="Cambria"/>
              </a:rPr>
              <a:t>發學習中心課表及家長同意調查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6T12:02:18Z</dcterms:created>
  <dc:creator>None</dc:creator>
  <dc:description/>
  <dc:language>en-US</dc:language>
  <cp:lastModifiedBy>User</cp:lastModifiedBy>
  <dcterms:modified xsi:type="dcterms:W3CDTF">2014-09-09T01:15:14Z</dcterms:modified>
  <cp:revision>84</cp:revision>
  <dc:subject/>
  <dc:title>工作適應理論TWA</dc:title>
</cp:coreProperties>
</file>